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8648-FE11-4422-AB4B-2C39D44E5C1D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053C-199E-4D21-98E5-5AAAAD44AA9A}" type="slidenum">
              <a:rPr b="1" lang="zh-TW" sz="1200" spc="-1" strike="noStrike">
                <a:solidFill>
                  <a:srgbClr val="ffffff"/>
                </a:solidFill>
                <a:latin typeface="Verdana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6F2B-20C5-40C0-BE0D-7392176EDB4B}" type="slidenum">
              <a:rPr b="1" lang="zh-TW" sz="1200" spc="-1" strike="noStrike">
                <a:solidFill>
                  <a:srgbClr val="ffffff"/>
                </a:solidFill>
                <a:latin typeface="Verdana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845E-CC41-41DA-8324-92002D20F262}" type="slidenum">
              <a:rPr b="1" lang="zh-TW" sz="1200" spc="-1" strike="noStrike">
                <a:solidFill>
                  <a:srgbClr val="ffffff"/>
                </a:solidFill>
                <a:latin typeface="Verdana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F05-3CE4-45A7-9495-F1218799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D3E-C735-4989-81A7-E1C80DFB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4913A-C4E3-43C1-BA76-3D4C8FA0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4D20C-836C-461A-9992-84E49F0C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D409C-26C7-4A11-9AA6-7388EE3F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78CE4-C42F-4D73-A8D2-3E616A8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40629-428F-49FD-81C1-3FAE4A60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925E0-1C34-44F8-8154-FC878D2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DC6AB-8EA9-4FE3-9E9E-8921CAAE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4CA78-0929-483A-B891-DA3AB07F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0B961-E102-47EF-8814-59C0D0DC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22223-E40B-418F-B976-5F4EEDD8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204-DC8F-42D2-A5E9-4CD63027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A2806-724F-479C-8B9C-E8E7CB08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8EABB-28D2-42FE-91DD-8087E48D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8AB19-A25A-4789-8E1B-B7E3F16D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5B3E1-8BDE-465B-AFA4-DCF06321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335F4-CE7A-4DDB-B0F9-7C41C6D5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DC888-58B0-4477-8DEE-D83E30B7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1B8D3-E1E9-4A5F-B35F-38E060D6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936BB-A94F-4D8F-9641-E751CE98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96F38-C958-4D0D-8203-2552B6DF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841D9-8192-4C09-A4E5-98F71AA3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E51-D19C-4F1A-90ED-4530EB3C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4E88C-CD27-4196-9D4C-6F0BE725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7C004-1C0F-40F3-842F-60572ADF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0644D-DC62-451A-8AD2-E0FA3D88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FD79B-030C-4E09-A0CA-501118D8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C9E50-F3F0-4A66-A13D-57B6AA4B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60493-F6AD-4AD7-B1DE-16693D6D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4EF80-7831-42EE-8458-411C9C48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81E78-4E94-4147-BD9D-B259459C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631B7-29BC-41C6-8576-F2CDE4FF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9A564-B2D1-4B3F-A031-43296BFC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277B-AC2F-44EF-91D5-CD6015F6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71BFA-6742-4CD1-99E9-6D35F4A4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02305-56C3-4A37-9346-4A843C8D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89263-998E-42AF-8B41-00A6FCF4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9D75-6D0C-43AA-BBB5-7F65DC7C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F291-6405-4636-8A18-22D677AC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C32A-D0E1-4495-8085-3C59E94A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A644-B49E-4B7D-AD08-2251C046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B539-8D5D-4C16-91A8-49A40828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6ECF-F6E1-4331-8589-60BFDE5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07C-952C-4A05-B220-7AD99D7A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7D83-CBB6-486F-9C34-CCB70A85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5570-B5E4-481A-9907-435D840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19A8-70C1-4C8F-BF1D-0A9779B7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469-839D-4AB2-BEF1-24902D5D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6D4E-0A99-4873-BD48-A1781C67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359D-09C2-4649-BE8D-64328ABA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2329-CCCC-49D0-AF7E-7D10659F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28D4-81E1-4DD7-8CC4-5C84893D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9461-B948-4339-830E-616E9F37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F50B-6CAD-4207-86F8-18650B1E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387-FB95-482B-99C1-B60EC41E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915F-71C2-4F9E-B0ED-22810E02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7073-49C5-4A66-9095-0125DAD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EF56-980C-4E08-A3DD-A62EE5B6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14F8-342C-4461-ACAE-72F442A2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D21A-AE23-44D9-81C8-834EBBA8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53F7-0B1C-4F74-976F-6D6F5892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6610-40C3-40DE-817B-27F266BF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8E2CF-C3E6-47DD-8D29-484F8D20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98A03-E00E-4995-AF05-B50A3193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A2D2-6E35-4851-AE56-8C7453EF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A5D-B434-449C-B1D4-1D34ABCF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893C5-7693-466D-A5B3-7F5F7DD2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F9A9-0E6C-4C52-A383-8A6A8F4B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C36F3-3093-41B5-A3C9-3D4048B6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B36A-74EE-4ACA-A094-2F7030E4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E5DB-9DD3-45B6-9A0B-1A282D56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E3CA-8C8F-4622-A3BF-94605FB0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83902-85DA-4FB8-8D2A-FB214421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3B9A-1446-4D64-A0D7-7CF26C9D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836F7-FADF-4570-B5AB-5520C15C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C5B96-0D31-4875-A44A-B1B20067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A3F-E901-48E9-9A34-B71D8068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EE7E6-D144-4041-9177-8C59924A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7EEB0-2492-48D5-84D4-779C25A4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0BA0A-B65E-435A-AEA5-91ABC5A1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B1F0F-42F3-482F-82E0-924EDBCB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C132C-2701-4973-92E2-AB30C79A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E3A20-E74F-4A38-A903-9B3D36D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040D3-4437-4D74-940E-37C8353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203A3-E5A9-4F83-8B7F-BCCECE7B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B6946-1BB6-472A-B826-F1EA4E81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CDADB-0908-4B3E-9F03-0CA37506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1ED-CA88-412E-AB44-40967582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24DB6-1F81-45A1-868D-8F69ACC3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B2E96-354D-48FA-AF91-9DA9C410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FB3E0-A23F-4713-865F-49CF7969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EE658-7915-4558-AB88-AECF05D6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21E05-9688-47A4-8171-BEA6C2C3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870D0-CC95-4A5B-B74E-6DEE9ECC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13212-CD90-4F18-B7B5-8B4360B4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45E20-8B50-4F9D-813D-0415A389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CCE55-5B64-4DA8-BE50-DF73734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5272D-A36A-472D-93D8-84CA1EB5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BB8-C5EF-4AFE-A0E8-2ED04736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31440-7534-4B1F-BD1F-6E7A0665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3ECAE-5BF3-4FDC-9536-F5826370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3F5D6-FC61-4F4B-BF89-C3511418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E4982-6AA9-4261-AD87-AC820272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7C0AF-7F1C-4681-948F-F292E175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39FAA-72AC-4AA1-AF67-73B4E015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157A-9FB3-4612-B112-D86B7BA7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3F100-53C8-41C4-9C6A-3D7FA3F1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3A350-92EE-44D8-B654-BB613B51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EE7A8-5FDD-483B-A556-0D9AFA71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511-C88B-4E75-AFD0-C573D7E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8B372-D780-4BF0-8D0C-126A1E0F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7BBB4-3B06-4973-B20F-861D927A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06AF6-6C25-4A06-BFE4-262FCCC8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33547-2F29-4E72-B872-37ABF310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1F588-1A77-49A4-B1B2-E03D4B61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C7D14-2FCB-43AC-AA6C-D146FA78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2EEFB-05C2-4920-A822-D3BE7D0E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BA53A-768E-480E-A548-7FBDC6CA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72B75-74C4-4A12-9512-6C7DD7E3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4D4B4-C636-40BE-A795-3486654E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336-201C-4483-A01C-3F7586A5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A1B16-7AF5-4340-969A-FBACD83F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CC42B-3BC6-43AC-9378-E7C028A0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D771E-F91D-48A2-8E19-2E45526A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19188-7559-42B2-8CFC-EE6A06D3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80776-6437-4A36-B61F-611C2C01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BA133-2161-48CC-BC55-DB7EBACA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E3BA0-E807-4840-ACF4-0F59049E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10F90-CEBA-4247-9BB0-352BF61D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D493C-4FFE-4D90-B813-59CC4CAA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3BD58-1B6C-4E64-A525-99EB07B0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D527-E08C-4385-B757-3DBECFAA524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9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1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4B63-C0C8-46C5-870C-0EAE7A2D84D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7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9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7069-C4DC-41C3-B74E-21252DC03BF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7799-CCB3-47AF-9509-601D70B2776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108000" y="566100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B8FA-7083-4171-B0D6-AFD8990C2A2E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6764400" y="866880"/>
            <a:ext cx="2302920" cy="588960"/>
            <a:chOff x="6764400" y="866880"/>
            <a:chExt cx="2302920" cy="588960"/>
          </a:xfrm>
        </p:grpSpPr>
        <p:pic>
          <p:nvPicPr>
            <p:cNvPr id="89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6764400" y="866880"/>
              <a:ext cx="228456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0"/>
            <p:cNvSpPr/>
            <p:nvPr/>
          </p:nvSpPr>
          <p:spPr>
            <a:xfrm>
              <a:off x="7286040" y="1148760"/>
              <a:ext cx="17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標楷體"/>
                </a:rPr>
                <a:t>健康  關懷  多元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91" name="Picture 11" descr="MC900428235[1]"/>
          <p:cNvPicPr/>
          <p:nvPr/>
        </p:nvPicPr>
        <p:blipFill>
          <a:blip r:embed="rId4"/>
          <a:stretch/>
        </p:blipFill>
        <p:spPr>
          <a:xfrm flipH="1" rot="21472800">
            <a:off x="169560" y="533160"/>
            <a:ext cx="515880" cy="730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MC900072902[1]"/>
          <p:cNvPicPr/>
          <p:nvPr/>
        </p:nvPicPr>
        <p:blipFill>
          <a:blip r:embed="rId5"/>
          <a:stretch/>
        </p:blipFill>
        <p:spPr>
          <a:xfrm>
            <a:off x="395280" y="1197000"/>
            <a:ext cx="6840720" cy="7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0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3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4CA1-6342-4616-BDE0-177355CA8C9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EF19-F04F-419F-82C8-86FA889898F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76B4-99D1-4CF3-BA3D-164A6951B8C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9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FC9-C41B-4B5B-B691-8F8D1737629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7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8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4F6A-399D-4316-A604-4282575F772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圖片3"/>
          <p:cNvPicPr/>
          <p:nvPr/>
        </p:nvPicPr>
        <p:blipFill>
          <a:blip r:embed="rId2"/>
          <a:srcRect l="3308" t="36246" r="2399" b="7499"/>
          <a:stretch/>
        </p:blipFill>
        <p:spPr>
          <a:xfrm>
            <a:off x="468360" y="4799160"/>
            <a:ext cx="820908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52" name="Group 8"/>
          <p:cNvGrpSpPr/>
          <p:nvPr/>
        </p:nvGrpSpPr>
        <p:grpSpPr>
          <a:xfrm>
            <a:off x="5869080" y="333360"/>
            <a:ext cx="2950920" cy="813600"/>
            <a:chOff x="5869080" y="333360"/>
            <a:chExt cx="2950920" cy="813600"/>
          </a:xfrm>
        </p:grpSpPr>
        <p:pic>
          <p:nvPicPr>
            <p:cNvPr id="453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5869080" y="333360"/>
              <a:ext cx="292716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10"/>
            <p:cNvSpPr/>
            <p:nvPr/>
          </p:nvSpPr>
          <p:spPr>
            <a:xfrm>
              <a:off x="6537240" y="839880"/>
              <a:ext cx="22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標楷體"/>
                </a:rPr>
                <a:t>健康  關懷  多元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128B-DB80-4D20-9523-CF1A299CE86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7636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金山高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標楷體"/>
              </a:rPr>
              <a:t>102</a:t>
            </a: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學年度第</a:t>
            </a:r>
            <a:r>
              <a:rPr b="1" lang="en-US" sz="6000" spc="-1" strike="noStrike">
                <a:solidFill>
                  <a:srgbClr val="cc3300"/>
                </a:solidFill>
                <a:latin typeface="標楷體"/>
              </a:rPr>
              <a:t>2</a:t>
            </a: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學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期末校務會議</a:t>
            </a:r>
            <a:r>
              <a:rPr b="1" lang="zh-TW" sz="6000" spc="-1" strike="noStrike">
                <a:solidFill>
                  <a:srgbClr val="0000ff"/>
                </a:solidFill>
                <a:latin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輔導處報告</a:t>
            </a:r>
            <a:r>
              <a:rPr b="1" lang="zh-TW" sz="60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標楷體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103/6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表填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表請導師於學期結束前完成相關記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配合無紙化政策及資料調閱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表將逐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年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改為線上填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家長日時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中部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期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:00-1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國中部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期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晚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:30-21: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056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Arial"/>
              </a:rPr>
              <a:t>謝謝大家的配合與協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232000" y="2130120"/>
            <a:ext cx="46785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cc3300"/>
                </a:solidFill>
                <a:latin typeface="Arial"/>
              </a:rPr>
              <a:t>暑假快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8:37:48Z</dcterms:created>
  <dc:creator>Administrator</dc:creator>
  <dc:description/>
  <dc:language>en-US</dc:language>
  <cp:lastModifiedBy>User</cp:lastModifiedBy>
  <cp:lastPrinted>2013-01-16T04:51:42Z</cp:lastPrinted>
  <dcterms:modified xsi:type="dcterms:W3CDTF">2014-06-27T06:49:08Z</dcterms:modified>
  <cp:revision>140</cp:revision>
  <dc:subject/>
  <dc:title>96學年度第1學期期末教務會議</dc:title>
</cp:coreProperties>
</file>